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8CA-9E37-4C70-8AAC-04A579AB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E33-22C9-4774-833D-53958639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9DA-2E7A-4D10-95F6-4EE1E465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5EC-9773-46C4-A8BB-776126F9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12F-B1F2-44CE-80A5-8B9D6252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1E4-5F01-4F64-92B6-559CA886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CB2-37BD-44A8-8294-B4A24684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7A9-945F-4703-82AE-C8FD29E1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C1C-4CC7-41E6-B97E-ABDFF67E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106-47F9-4F45-B29E-BB5677B4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6F2A-E175-4723-B91D-A29C488D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0EE-8FE8-4DDF-9A37-CEE78BFF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BE1B-5700-4FAD-8CCA-B06D72860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for the Common Core 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. Nesi – I.S. 2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ibrary Spring C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y 18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pipha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2362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formity of curriculum will not necessarily equal CCS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 Merging:  As long as we wan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niformity and CCS, why not address both issues at o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urriculum mapping sit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commoncore.org/maps/index.php/maps/grades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may not have to completely re-invent the wheel after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k, Turn and Talk Dir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all that apply on the Think Turn &amp; Talk hand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sure to provide brief explanations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to a neighbor and talk it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Question and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gested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 Activities and 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Plan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d Explor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 lists for the units/FAM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ders of printabl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meetings per week to hammer it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the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work on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unit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-do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book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general plan for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next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the year after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ease take a few moments to evaluate this workshop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 Told You So!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Finding the Overlap Between CCS and IFC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complete the Do N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CS Hand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C Po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ommon Core Standar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Ostrich.bmp"/>
          <p:cNvPicPr/>
          <p:nvPr/>
        </p:nvPicPr>
        <p:blipFill>
          <a:blip r:embed="rId1"/>
          <a:stretch/>
        </p:blipFill>
        <p:spPr>
          <a:xfrm>
            <a:off x="2127240" y="1974960"/>
            <a:ext cx="49687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First … Mostly Fear &amp; Den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9-2010 –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ELA curriculum mapping for uniform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er 2010 CCS worksh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w grab materials re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’ve got until 2014…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n … The Realiz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ering and “dumping” of materials would not be en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tent of the paradigm sh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mount of work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llowed by Pan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5" descr="panic-woman-face.jpg"/>
          <p:cNvPicPr/>
          <p:nvPr/>
        </p:nvPicPr>
        <p:blipFill>
          <a:blip r:embed="rId1"/>
          <a:stretch/>
        </p:blipFill>
        <p:spPr>
          <a:xfrm>
            <a:off x="2736720" y="1743120"/>
            <a:ext cx="3749760" cy="42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Then More Common Core Workshops and Den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2 ostriches.jpg"/>
          <p:cNvPicPr/>
          <p:nvPr/>
        </p:nvPicPr>
        <p:blipFill>
          <a:blip r:embed="rId1"/>
          <a:stretch/>
        </p:blipFill>
        <p:spPr>
          <a:xfrm>
            <a:off x="2432160" y="1743120"/>
            <a:ext cx="428616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all Saturday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“task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’ve known this all al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ing the task is not en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” tasks should inform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Grade ELA Work Begi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CCS still off in the distance, we work hard to make some misste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 teacher meetings to verbalize and plan to address dissatisf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of ELA Surve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of Resources Used 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2:33:33Z</dcterms:created>
  <dc:creator>NYCDOE</dc:creator>
  <dc:description/>
  <dc:language>en-US</dc:language>
  <cp:lastModifiedBy>NYCDOE</cp:lastModifiedBy>
  <dcterms:modified xsi:type="dcterms:W3CDTF">2011-05-14T14:44:37Z</dcterms:modified>
  <cp:revision>80</cp:revision>
  <dc:subject/>
  <dc:title>Curriculum Mapping for the Common Core Standards</dc:title>
</cp:coreProperties>
</file>